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3AB9-0135-4B22-A86D-0FE8BB93F0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Past  2) Yes  3) Yes  4)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D43D-FD56-4656-BAA1-A7A9A30F14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sible sentences: There used to be/didn’t use to be less/more inequality/unemployment/slavery/global warming. There used to be/didn’t use to be  fewer/more  wars/food allergies. The UK used to have more colonies. More/fewer people used to smo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0ABD-B37A-451A-AF98-35A9D0C419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1/2 hrs: ;vocabulary  20 mins; previewing text &amp; skim reading 10 mins; intensive reading &amp; sequencing 20 mins; intensive reading for true/false 15 mins; grammar focus 5 mins; grammar sentence making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E183-EC55-4D25-A0A8-2C99B3EFFB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e   2/f   3/g   4/d   5/h   6/a   7/b  8/c   9/i       You can print out and cut up the words, the picture, and definitions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59D-9F07-413D-A4F9-C0C3FC4B11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ve pairs/groups brainstorm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A0B8-9994-44E1-A984-CE1D43FFC0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690A-BE5F-4357-A638-15699CEC09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e  2) d  3) a  4) g  5) b  6) f  7)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FB4B-B484-4E5B-BB8A-B04BFE5614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True 2) False 3)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E898-21C7-416F-AD1E-BF122BC5F3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04E-07A5-4D59-808B-4137A440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E39-BC10-4BE1-BB5B-0E65C539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6B4-37E2-4684-B6C6-80708292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976-72FC-4C73-8FC4-B99928E5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655-4643-4322-93D4-BCACDE4D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D27-4951-4608-B034-B71849D8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6BA-5B97-4343-8FE8-ADB39D76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F01-746D-4F25-B743-B6B1D904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9AE-B7CB-4AE0-B1FB-9866471C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E92-B3FB-4FE7-8AEA-C1BBABD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A1A-A44D-4C3C-9094-1ACC65B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3FE-AAF7-45D9-8D63-666F958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D70B-541F-4975-8A64-5D9BEC9D59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more_junk_food_in_Indian_schools" TargetMode="External"/><Relationship Id="rId2" Type="http://schemas.openxmlformats.org/officeDocument/2006/relationships/hyperlink" Target="http://eewiki.newint.org/index.php/The_price_of_the_%22right%22_to_alcohol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2204640"/>
            <a:ext cx="6264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Fighting for</a:t>
            </a:r>
            <a:br>
              <a:rPr sz="6600"/>
            </a:b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   India’s healt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27320" y="404640"/>
            <a:ext cx="6016680" cy="151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44440" y="2133720"/>
            <a:ext cx="3220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Calibri"/>
              </a:rPr>
              <a:t>Answer the questions about a sentence from the article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</a:t>
            </a: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Then I used to buy duty-free cigarettes for my friends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who loved Dunhill, Benson &amp; Hedges or Marlboro. Now I wish I had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is about the past, present, or fu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Did she buy cigarettes more than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as she stopped buying cigaret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</a:t>
            </a:r>
            <a:r>
              <a:rPr b="1" i="1" lang="en-GB" sz="3200" spc="-1" strike="noStrike">
                <a:solidFill>
                  <a:srgbClr val="00b050"/>
                </a:solidFill>
                <a:latin typeface="Calibri"/>
              </a:rPr>
              <a:t>used to</a:t>
            </a: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 followed by the infini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Make as many true sentences as you can from the words bel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any 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unem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inequalit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      fewer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u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slaver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global warming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d to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colonie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war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UK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have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food allergies      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 people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smo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0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 following artic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ut Ind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o more junk food in Indian schoo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more_junk_food_in_Indian_school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price of the “right” to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The_price_of_the_%22right%22_to_alco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5448240" y="260280"/>
            <a:ext cx="3583080" cy="239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6585120" y="3933720"/>
            <a:ext cx="24462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50"/>
                </a:solidFill>
                <a:latin typeface="Calibri"/>
              </a:rPr>
              <a:t>Vocabular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f0"/>
                </a:solidFill>
                <a:latin typeface="Calibri"/>
              </a:rPr>
              <a:t>Gramm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891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Match the words to the picture or the meaning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765000"/>
            <a:ext cx="352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1/ arteri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2/ amputa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3/ operating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theatr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4/ leth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5/ malnourishe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6/ tobacco lobb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7/ lung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8/ campaig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9/ adivasi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64000" y="907560"/>
            <a:ext cx="547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2d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roups who talk to government to get their help with sales of their cigarettes          b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)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d) something which 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kill you is 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e) parts of the body which carry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 ) cut off an arm or l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) room in a hospital for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h) someone who does not get enough food or of the right food can be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) first peoples of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75560" y="1628640"/>
            <a:ext cx="107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hy do people smok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at are the problems with smokin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097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512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Take 20 seconds to read the first three paragraphs of the article and find the answer to this questio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alibri"/>
              </a:rPr>
              <a:t>Is the article about the effects of smoking in Indi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2637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Then I used to buy duty-free cigarettes for my friends who loved Dunhill, Benson &amp; Hedges or Marlboro. Now I wish I had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 stopped in 1984, when I met a 21-year-old adivasi boy. His arteries had become hard and the doctors had to amputate his leg. My husband Stan carried him into the operating theatre and we both cried. A little later, the boy lost his second leg and then he killed hims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at sounds very unusual. But we saw many adivasis who had amputations because of tobacco. I’m not sure why. Maybe tobacco is more lethal if you have a malnourished body and this starts a very bad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        Mari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ote the article. Put 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the sentences in the order th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happene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a) She decided not to buy cigarett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b) The Indian boy committed sui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c) She regretted buying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d) She met an Indian boy who smo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e) She bought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f) She met many Indian boys who lost their le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g) The Indian boy had two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603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he next part of th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ticle. Are thes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ntences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1) </a:t>
            </a:r>
            <a:r>
              <a:rPr b="1" i="1" lang="en-GB" sz="3200" spc="-1" strike="noStrike">
                <a:solidFill>
                  <a:srgbClr val="00b0f0"/>
                </a:solidFill>
                <a:latin typeface="Calibri"/>
              </a:rPr>
              <a:t>Giant Killers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is part of the campaign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2) 30 years ago everyone was interested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ampa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3) In India today there is a big campaig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against 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75640" y="477720"/>
            <a:ext cx="194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077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 1991, I met David Cohen, co-author of an anti-tobacco book called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iant Killer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. David and others fought big legal battles against the tobacco lobby in the US. Everyone could see how much damage tobacco was doing – so many deaths from cancer, lung damage and very big health costs. And all to make more money for the tobacco industry. The problem was that no-one wanted to listen, not the government, the industry, or people who use tobac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irty years later, I am happy to see a similar battle in India. The Institute of Public Health (IPH), started by Doctors Roopa and Narayanan Devadasan, is fighting for India’s health. The anti-tobacco campaign is one of their many fights. And they already have some good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20:04:22Z</dcterms:created>
  <dc:creator>Linda Ruas</dc:creator>
  <dc:description/>
  <dc:language>en-US</dc:language>
  <cp:lastModifiedBy>Linda Ruas</cp:lastModifiedBy>
  <dcterms:modified xsi:type="dcterms:W3CDTF">2015-05-27T11:54:10Z</dcterms:modified>
  <cp:revision>76</cp:revision>
  <dc:subject/>
  <dc:title>PowerPoint Presentation</dc:title>
</cp:coreProperties>
</file>